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2D6B-3513-4662-89C0-28AD09E7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E95-582C-42A7-B5B3-2F44ECB6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A1E-DCCC-4A6E-92EE-25D6E278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465-C24C-47E2-A174-E28B9765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8E1D-97DE-4D9A-AF7B-F0C3B089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906E-C67D-49B7-B05D-9085CEA2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4E5-C3CB-467A-A5B3-E4D6B482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3EB-D468-4020-A912-EB5DA3A8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D7C2-7054-4679-B790-D24EDD41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70C5-AD27-40BB-9F20-39F8E2F8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A510-0EC7-4856-AC4A-2E82D3B3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9F3C-90CF-4AC0-B076-242AD1B5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AB7B-989F-4040-8DE3-D43B1EAF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309A-2170-4D1C-A72C-5B660909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D744-B106-4C06-B2F4-CC6CC3F7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90D2-A20D-4AAF-99F3-BDEA0D0F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6056-B265-4F1A-918B-B9F89B0E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37F0-B729-4E5A-A60F-9B4BF698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D240-EB60-4A41-A0EE-47BE3AC2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A18F-5899-45F2-A57B-C8ABF832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EE2D-567A-4A60-B2C0-95CE533C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B4DD-893F-4D4F-94DD-4AEFF7F1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9B08-81F4-473B-AF72-52F48858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31C1-CF55-4031-A150-D423E3DE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4002-91E0-43BE-BC54-E8AD2E8FD32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FB44-6917-4E62-91B4-56B1D991E39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4"/>
          <p:cNvSpPr/>
          <p:nvPr/>
        </p:nvSpPr>
        <p:spPr>
          <a:xfrm>
            <a:off x="328680" y="333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me 2: Timelines for revision and submission of manu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1280" y="907920"/>
          <a:ext cx="8893440" cy="5722920"/>
        </p:xfrm>
        <a:graphic>
          <a:graphicData uri="http://schemas.openxmlformats.org/drawingml/2006/table">
            <a:tbl>
              <a:tblPr/>
              <a:tblGrid>
                <a:gridCol w="3170520"/>
                <a:gridCol w="1353960"/>
                <a:gridCol w="1373400"/>
                <a:gridCol w="1498320"/>
                <a:gridCol w="1497240"/>
              </a:tblGrid>
              <a:tr h="64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nuscript 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letion of re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bmission of manuscri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rget 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rralling, plant density and N fertilizer rate effect on soil, weed and grain y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ud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vestock corralling density effect on soil quality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ud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ode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 growth type effects on productivity  and profitability of hybrid ma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ar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proved rice variety response to nitrogen rate in Northern 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ul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. J of Agric. &amp; Bio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vity of maize-vegetable intercrops in Northern 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ean-Bapt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vity of maize-vegetable intercrops in Northern M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ean-Bapt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TIT2</cp:lastModifiedBy>
  <cp:lastPrinted>2015-09-01T11:16:39Z</cp:lastPrinted>
  <dcterms:modified xsi:type="dcterms:W3CDTF">2016-12-13T15:46:07Z</dcterms:modified>
  <cp:revision>998</cp:revision>
  <dc:subject/>
  <dc:title>Diapositiva 1</dc:title>
</cp:coreProperties>
</file>